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120-5310-4AD0-8963-1B4ADDA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045-BAAF-4489-83D3-118AF45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354-AF2D-4694-BD95-7734C359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9F1-D8EA-4551-9CCC-1DC2A182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0B8-3055-48C0-89C5-B4C7BEC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0B4-7E39-48F6-A661-90963F4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202-BC48-4198-8E4D-502015C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FBA-6A55-431A-B58F-B6A8E12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EAC-72F1-4C9E-8C8D-D9C002F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0AC-6E49-42E9-BCB4-A449F53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01E-F544-4368-952C-45F8BC1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1F3-37FE-4BC8-992D-F85C461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B0D-5E12-4384-A000-6AFC79D421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73480" y="2492280"/>
            <a:ext cx="3640680" cy="1873440"/>
            <a:chOff x="2373480" y="2492280"/>
            <a:chExt cx="3640680" cy="1873440"/>
          </a:xfrm>
        </p:grpSpPr>
        <p:sp>
          <p:nvSpPr>
            <p:cNvPr id="42" name=""/>
            <p:cNvSpPr/>
            <p:nvPr/>
          </p:nvSpPr>
          <p:spPr>
            <a:xfrm>
              <a:off x="3378600" y="2563920"/>
              <a:ext cx="21564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37160" y="3140280"/>
              <a:ext cx="216000" cy="215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242240" y="371628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5"/>
              <a:endCxn id="43" idx="1"/>
            </p:cNvCxnSpPr>
            <p:nvPr/>
          </p:nvCxnSpPr>
          <p:spPr>
            <a:xfrm>
              <a:off x="3562920" y="2748240"/>
              <a:ext cx="206280" cy="423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6" name=""/>
            <p:cNvCxnSpPr>
              <a:stCxn id="43" idx="5"/>
              <a:endCxn id="44" idx="1"/>
            </p:cNvCxnSpPr>
            <p:nvPr/>
          </p:nvCxnSpPr>
          <p:spPr>
            <a:xfrm>
              <a:off x="3921480" y="3324600"/>
              <a:ext cx="352440" cy="423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3592080" y="24922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28320" y="308124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83360" y="364500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D-F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62960" y="4149720"/>
              <a:ext cx="21564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4" idx="5"/>
              <a:endCxn id="50" idx="1"/>
            </p:cNvCxnSpPr>
            <p:nvPr/>
          </p:nvCxnSpPr>
          <p:spPr>
            <a:xfrm>
              <a:off x="4426560" y="3900600"/>
              <a:ext cx="568080" cy="28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5176440" y="407664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3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3480" y="2867040"/>
              <a:ext cx="129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s a member of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01880" y="344340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s a fragment of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4440" y="4005360"/>
              <a:ext cx="105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onjunc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82000" y="7840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55Z</dcterms:modified>
  <cp:revision>24</cp:revision>
  <dc:subject/>
  <dc:title>Slide 1</dc:title>
</cp:coreProperties>
</file>